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19.pct" ContentType="image/x-pict"/>
  <Override PartName="/ppt/media/image18.pct" ContentType="image/x-pict"/>
  <Override PartName="/ppt/media/image17.png" ContentType="image/png"/>
  <Override PartName="/ppt/media/image3.png" ContentType="image/png"/>
  <Override PartName="/ppt/media/image14.pct" ContentType="image/x-pict"/>
  <Override PartName="/ppt/media/image16.pct" ContentType="image/x-pict"/>
  <Override PartName="/ppt/media/image15.png" ContentType="image/png"/>
  <Override PartName="/ppt/media/image7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A7B-375E-476B-B6B9-9B7E6134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43F-4F22-463E-945B-49619C3A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AC0E-5251-4E25-AA49-ABC6FAF7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144-9C58-4E04-9E22-CCC79475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987-4B2B-4FB1-A2F0-BA540443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28AC-D61C-4A80-A99A-FE0E3A9F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CFB-DB73-431A-8BFA-3E8A2444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B26-1751-4AC5-8D15-1180FBD0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AA3-2872-45C2-91F6-EE01DD99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DC9-DC93-4CCF-B124-A23E8FA0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2E0-AA28-41BF-90A1-9E032A33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56C-D4DB-4BF0-822F-8622910C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8A5E-6996-4CC5-8170-3C8D69ECA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752480"/>
            <a:ext cx="0" cy="4267440"/>
          </a:xfrm>
          <a:prstGeom prst="line">
            <a:avLst/>
          </a:prstGeom>
          <a:ln w="5724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57200" y="722160"/>
            <a:ext cx="322200" cy="4208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90720" y="228600"/>
            <a:ext cx="384120" cy="4381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1600200" y="609480"/>
            <a:ext cx="420840" cy="32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3800" y="1558800"/>
            <a:ext cx="83502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ATION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3800" y="1558800"/>
            <a:ext cx="835020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TRANSFORMATION S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at do students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ood comprehension of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anguage of m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nderstanding of text features of mathematics 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range of problem solv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classroom climate that fosters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934320" y="5105520"/>
            <a:ext cx="1830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3800" y="1558800"/>
            <a:ext cx="8350200" cy="62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TRAGETIES FOR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NAP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atalie paddled 402 km of the Murray River in her canoe over 6 days. She paddled the same distance each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ow far did Natalie paddle each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roup activity - list the strategies that could be used to solve this problem before going to an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086600" y="5334120"/>
            <a:ext cx="172080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3800" y="1558800"/>
            <a:ext cx="835020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me common transformation strategi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ct out or us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a drawing or a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se a table or a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an organis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uess and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ok for a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ork back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it sim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086600" y="4724280"/>
            <a:ext cx="1295280" cy="1274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219240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3800" y="1558800"/>
            <a:ext cx="8350200" cy="52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ATION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 problem to s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man buys a horse for $60, sells it for $70, buys it back for $80 and sells it again for $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id he make or lose m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ow mu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27432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3800" y="1558800"/>
            <a:ext cx="835020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hat strategies might students use to solve the Camalot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39625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3800" y="1558800"/>
            <a:ext cx="8350200" cy="58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MALO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amalot School is a small school with only six classrooms in the whole school. This year more students were enrolled that last year. Every classroom at the school has 8 tables for students and every table has four chairs. When every student at the school is sitting in a chair, 24 chairs are empty in the school. How many students are at Camalot Scho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705720" y="39625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3800" y="1558800"/>
            <a:ext cx="835020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dentify the relevan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Camalot School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small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school with only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six classrooms in the whole school.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This year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mor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students were enrolled that last year.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Every classroom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at the school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has 8 tabl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for students and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every table has four chair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every student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at the school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is sitting in a chair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24 chairs are empt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n the school. </a:t>
            </a:r>
            <a:r>
              <a:rPr b="0" lang="en-AU" sz="2400" spc="-1" strike="noStrike">
                <a:solidFill>
                  <a:srgbClr val="ed181e"/>
                </a:solidFill>
                <a:latin typeface="Times New Roman"/>
              </a:rPr>
              <a:t>How many students are at Camalot Sch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086600" y="48769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3800" y="1558800"/>
            <a:ext cx="8350200" cy="68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Draw a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ifferent configurations of the diagram could be drawn to allow students to arrive at one of the following series of operations (or other combinations) to solve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4 x 8 x 6 - 24           4 x 8 x 5 + 4 x 2           4 x 7 x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32 + 32 + 32 + 32 + 32 + 8           5x 32 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3800" y="1558800"/>
            <a:ext cx="835020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operative Learn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ink - pair -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operative problem sol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Get It Together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book re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ind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Quality improve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25146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3800" y="1558800"/>
            <a:ext cx="8350200" cy="59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ANSFORM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Problem Solving 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se a tabl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Guess and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ke a list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Draw a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ok for a pattern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Model the problem with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ork backward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Simplify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ct it out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* Logical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raw a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3800" y="1558800"/>
            <a:ext cx="83502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AMALOT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amalot School is a small school with only six classrooms in the whole school. This year more students were enrolled that last year. Every classroom at the school has 8 tables for students and every table has four chairs. When every student at the school is sitting in a chair, 24 chairs are empty in the school. How many students are at Camalot Scho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ISSUES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05720" y="3962520"/>
            <a:ext cx="176832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3800" y="1558800"/>
            <a:ext cx="835020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ERE TO FROM HER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hole school approach to num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umeracy and literacy strategies embedded in all KLA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unt Me In Too and Count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vestigate the use of Newman’s Error Analysis to develop similar questioning for literacy and other K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3800" y="1558800"/>
            <a:ext cx="83502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FOR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Read the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Tell me what the question is asking you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What will you do to find the answ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Tell me what you are d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Why did you do t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1822cd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1822cd"/>
                </a:solidFill>
                <a:latin typeface="Times New Roman"/>
              </a:rPr>
              <a:t>Now write down the answer to the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971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81680" y="457200"/>
            <a:ext cx="182880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800" y="1558800"/>
            <a:ext cx="835020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ordy - literac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Unnecessar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Numbers written in words and num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Only two numbers are displayed using numerals. The temptation is to either add, subtract, multiply or divide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 lot of information to process in order to answer the question as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question is at the end of a long piece of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5200" y="533520"/>
            <a:ext cx="1098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3800" y="1558800"/>
            <a:ext cx="835020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ANALYSI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read the words of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MPREH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understand the meaning of what has been r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81680" y="2286000"/>
            <a:ext cx="16480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3800" y="1558800"/>
            <a:ext cx="835020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ANALYSI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determine a way to solve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OCESS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do the mathematic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943600" y="3886200"/>
            <a:ext cx="297180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3800" y="1558800"/>
            <a:ext cx="8350200" cy="59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NEWMAN’S ANALYSIS APPL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record and interpret their answer in relation to the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mbedded in encoding is “record” AND “interpr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- Can students tell whether the answer they have makes sen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4952880"/>
            <a:ext cx="1446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3800" y="1558800"/>
            <a:ext cx="83502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REHEND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LITERACY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rite about, talk abou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xpla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972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Sequenc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mmunicativ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atching / sort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Language / wor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ephras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Dictagloss - teacher dictates, students record main points of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5053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93800" y="1558800"/>
            <a:ext cx="83502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re are 26 sheep and 10 goats on a sh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How old is the capt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76 out of 97 students did one of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+ 10 =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- 10 =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x 10 = 2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26 / 10 =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1600200" cy="158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162920" y="2895480"/>
            <a:ext cx="157644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51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State Literacy and Numeracy Training Conference  - 200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3800" y="1558800"/>
            <a:ext cx="8350200" cy="58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Mr Left had 8 apples. His wife gave him 3 apples. How many apples did Mr Left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Some students transform a problem into a proces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gu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focusing on a ‘key word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eg ‘lef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12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Bernard Tola and Ray MacArth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77120" y="4114800"/>
            <a:ext cx="20574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2:32:51Z</dcterms:created>
  <dc:creator>DET</dc:creator>
  <dc:description/>
  <dc:language>en-US</dc:language>
  <cp:lastModifiedBy>Rural Distance</cp:lastModifiedBy>
  <cp:lastPrinted>2007-02-27T23:00:34Z</cp:lastPrinted>
  <dcterms:modified xsi:type="dcterms:W3CDTF">2009-03-05T03:41:50Z</dcterms:modified>
  <cp:revision>378</cp:revision>
  <dc:subject/>
  <dc:title>Programming Stage 5</dc:title>
</cp:coreProperties>
</file>